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AF86-9D92-4384-8E01-914DE9EA0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3CBB-6E2C-40BC-BC8C-249F82AB48A4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552F-6F4B-4FF7-8886-AB26DBE65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84B4-9406-4A1E-ABC5-C58E9960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FED2-76FA-4708-8705-7B99CB785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49FE-C392-4C46-927F-1A4E90605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FC46-2D0B-4D3F-A626-5D804ACAE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AABA-B118-42B3-ABC2-5BD95037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4F6E-21F5-4340-AF94-8E621989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9543-DBEC-41A8-9D6F-8E9D15D0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1860-9F50-4E3C-A300-BB4D2B42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8EFA-18B2-4FC6-ABC8-CD1E1BE1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F08C-3FF9-4A83-A546-C3686515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503E-1645-4395-B7A9-DDCA3BA8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D057-72B5-43A4-9368-706F2137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D809-8C5B-4AD7-8482-C4BB863E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A88A-4A0E-42B5-BBE0-771397E3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D105-CA48-42F1-87E0-B06B3A248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749A-18F5-4D73-9751-EB60560EC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17CC-A222-4EFF-8A2B-08D8EB77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4EAC-59B0-43D7-8279-3741F346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23E2-BB5E-4B65-B806-FB789DF2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A50C-008C-4AB2-A0A6-C581A69D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F2B5-A71E-4635-A680-7621828A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BC66-BE04-46ED-A274-61DD1494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22E7-B290-4559-91D6-67190C72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7E7B-BBC1-45C1-B9A2-7473D510AC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F563-A0A0-4D55-A2C4-597B429685B2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pter 7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hemical Reacti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bustion Examp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Complete combustion of propane (C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H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8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Combustion of aluminum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3" name="Picture 5" descr="twenty pound propane tank"/>
          <p:cNvPicPr/>
          <p:nvPr/>
        </p:nvPicPr>
        <p:blipFill>
          <a:blip r:embed="rId1"/>
          <a:stretch/>
        </p:blipFill>
        <p:spPr>
          <a:xfrm>
            <a:off x="6705720" y="2590920"/>
            <a:ext cx="190476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ynthesis (or Combination)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Two or more substances combine to form a “larger” compound.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Group 1A &amp; 2A metals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- use common charges to predict ionic compound formed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Transition metals or 2 nonmetals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- many products are possibl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ynthesis Examp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thesis of barium chlorid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mbination of copper and sulfu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8" name="Picture 5" descr="06608Barium_Chloride"/>
          <p:cNvPicPr/>
          <p:nvPr/>
        </p:nvPicPr>
        <p:blipFill>
          <a:blip r:embed="rId1"/>
          <a:srcRect l="16294" t="4441" r="16294" b="12451"/>
          <a:stretch/>
        </p:blipFill>
        <p:spPr>
          <a:xfrm>
            <a:off x="6937200" y="2286000"/>
            <a:ext cx="220680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composi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More complex molecule breaks down into simpler substanc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Binary compounds-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decompose into constituent elemen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Ternary or more complex compounds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- decompose into either constituent elements or into a combination of compound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composition Examp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Decomposition of sulfur trioxide ga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Decomposition of ammonium nitrate to produce dinitrogen monoxide and water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3" name="Picture 7" descr="so3_molecule_sm"/>
          <p:cNvPicPr/>
          <p:nvPr/>
        </p:nvPicPr>
        <p:blipFill>
          <a:blip r:embed="rId1"/>
          <a:srcRect l="0" t="0" r="52782" b="0"/>
          <a:stretch/>
        </p:blipFill>
        <p:spPr>
          <a:xfrm>
            <a:off x="990720" y="2575080"/>
            <a:ext cx="1295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composition v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issoci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Decomposition- atoms with NEW properties are created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Dissociation- ions without new properties are created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7" name="Picture 5" descr="S1098C"/>
          <p:cNvPicPr/>
          <p:nvPr/>
        </p:nvPicPr>
        <p:blipFill>
          <a:blip r:embed="rId1"/>
          <a:stretch/>
        </p:blipFill>
        <p:spPr>
          <a:xfrm>
            <a:off x="533520" y="3733920"/>
            <a:ext cx="3584520" cy="24001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0" descr="3"/>
          <p:cNvPicPr/>
          <p:nvPr/>
        </p:nvPicPr>
        <p:blipFill>
          <a:blip r:embed="rId2"/>
          <a:stretch/>
        </p:blipFill>
        <p:spPr>
          <a:xfrm>
            <a:off x="4952880" y="3733920"/>
            <a:ext cx="38401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ingle Replace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Possible reaction between an element and an aqueous compound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Metals ONLY replace metals and nonmetals ONLY replace nonmetal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Activity series used to predict whether replacement will occur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.R. Examp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Lithium is combined with calcium nitrat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Silver is placed into a solution of magnesium carbonat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Chlorine gas is bubbled through a solution of aluminum bromid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uble Replace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Possible exchange of partners by two compound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Opposites attract- two positive ions WILL NOT combine (two negative ions won’t either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Solubility Rules used to predict if double replacement will occur (a precipitate, a gas, or water must be a product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.R. Examp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Solutions of magnesium nitrate and aluminum phosphate are mixed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Solutions of sodium chloride and aluminum nitrate are mixed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Understanding Chemical Reac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A chemical reaction occurs when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A change in energy occur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Exothermic –gives off energ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Endothermic – absorbs energ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The color chang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A new gas is created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A precipitate, gas or water is formed from 2 solution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et Ionic Equa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Eliminate spectator ion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Solutions of sodium chloride and silver nitrate are mixed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9" name="Picture 5" descr="L13AgCl"/>
          <p:cNvPicPr/>
          <p:nvPr/>
        </p:nvPicPr>
        <p:blipFill>
          <a:blip r:embed="rId1"/>
          <a:stretch/>
        </p:blipFill>
        <p:spPr>
          <a:xfrm>
            <a:off x="762120" y="3352680"/>
            <a:ext cx="7391160" cy="29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uble Replacement to Form Wate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Acids and bases react in a double replacement reaction and produce water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Acid- produces H</a:t>
            </a:r>
            <a:r>
              <a:rPr b="0" lang="en-US" sz="2400" spc="-1" strike="noStrike" baseline="30000">
                <a:solidFill>
                  <a:srgbClr val="ffcc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 ions, pH &lt; 7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Base- produces OH</a:t>
            </a:r>
            <a:r>
              <a:rPr b="0" lang="en-US" sz="2400" spc="-1" strike="noStrike" baseline="30000">
                <a:solidFill>
                  <a:srgbClr val="ffcc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 ions, pH &gt; 7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Neutralization- producing neutral water (pH = 7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eutralization Examp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Hydrochloric acid and sodium hydroxide are mixed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Sulfuric acid and calcium hydroxide are mixed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Parts of a Chemical Equation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AutoShape 6"/>
          <p:cNvSpPr/>
          <p:nvPr/>
        </p:nvSpPr>
        <p:spPr>
          <a:xfrm rot="5400000">
            <a:off x="2971800" y="1066680"/>
            <a:ext cx="457200" cy="3047760"/>
          </a:xfrm>
          <a:custGeom>
            <a:avLst/>
            <a:gdLst>
              <a:gd name="textAreaLeft" fmla="*/ 292320 w 457200"/>
              <a:gd name="textAreaRight" fmla="*/ 457560 w 45720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AutoShape 7"/>
          <p:cNvSpPr/>
          <p:nvPr/>
        </p:nvSpPr>
        <p:spPr>
          <a:xfrm rot="5400000">
            <a:off x="6095520" y="1600200"/>
            <a:ext cx="457200" cy="1981080"/>
          </a:xfrm>
          <a:custGeom>
            <a:avLst/>
            <a:gdLst>
              <a:gd name="textAreaLeft" fmla="*/ 292320 w 457200"/>
              <a:gd name="textAreaRight" fmla="*/ 457560 w 45720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Text Box 8"/>
          <p:cNvSpPr/>
          <p:nvPr/>
        </p:nvSpPr>
        <p:spPr>
          <a:xfrm>
            <a:off x="2590920" y="18288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eactant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5867280" y="19051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Text Box 11"/>
          <p:cNvSpPr/>
          <p:nvPr/>
        </p:nvSpPr>
        <p:spPr>
          <a:xfrm>
            <a:off x="228600" y="3962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oefficient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15"/>
              <p:cNvSpPr txBox="1"/>
              <p:nvPr/>
            </p:nvSpPr>
            <p:spPr>
              <a:xfrm>
                <a:off x="1676520" y="2666880"/>
                <a:ext cx="571500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8" name="Line 17"/>
          <p:cNvSpPr/>
          <p:nvPr/>
        </p:nvSpPr>
        <p:spPr>
          <a:xfrm flipV="1">
            <a:off x="3581280" y="3429000"/>
            <a:ext cx="533520" cy="53352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Text Box 18"/>
          <p:cNvSpPr/>
          <p:nvPr/>
        </p:nvSpPr>
        <p:spPr>
          <a:xfrm>
            <a:off x="2971800" y="3962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Subscrip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Line 20"/>
          <p:cNvSpPr/>
          <p:nvPr/>
        </p:nvSpPr>
        <p:spPr>
          <a:xfrm flipV="1">
            <a:off x="6477120" y="3429000"/>
            <a:ext cx="457200" cy="53352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Text Box 21"/>
          <p:cNvSpPr/>
          <p:nvPr/>
        </p:nvSpPr>
        <p:spPr>
          <a:xfrm>
            <a:off x="5486400" y="3962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hysical stat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2" name="Text Box 22"/>
          <p:cNvSpPr/>
          <p:nvPr/>
        </p:nvSpPr>
        <p:spPr>
          <a:xfrm>
            <a:off x="819000" y="5029200"/>
            <a:ext cx="7467840" cy="10598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</a:rPr>
              <a:t>Symbols-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 used to specify properties of reactants and products or conditions of the reaction (know table 11.1, page 323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Line 10"/>
          <p:cNvSpPr/>
          <p:nvPr/>
        </p:nvSpPr>
        <p:spPr>
          <a:xfrm flipV="1">
            <a:off x="914400" y="3276360"/>
            <a:ext cx="838080" cy="68580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ord Equa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2666880"/>
            <a:ext cx="86868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CuS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4(aq)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+ Ag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(s) </a:t>
            </a:r>
            <a:r>
              <a:rPr b="0" lang="en-US" sz="3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Ag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S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4(aq)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+ Cu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(s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aqueous copper (II) sulfate and solid silver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ea typeface="Arial"/>
              </a:rPr>
              <a:t>react to produc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 aqueous silver sulfate and solid copper.”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lancing Equa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Why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ea typeface="Arial"/>
              </a:rPr>
              <a:t>Law of Conservation of Mass (LCM)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- mass is neither created nor destroyed in chemical reactions (Antione Lavosier, 1700’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Coefficients- added so reactions obey the LCM (DON’T touch subscripts!!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rocedure for Balanc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28191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Write formulas for reactants and product on respective sides of the equat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Perform initial “atom inventory” on each side of the equat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Add coefficients to make inventories match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Update and repeat as needed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Verify answer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racti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3"/>
              <p:cNvSpPr txBox="1"/>
              <p:nvPr/>
            </p:nvSpPr>
            <p:spPr>
              <a:xfrm>
                <a:off x="533520" y="2971800"/>
                <a:ext cx="830556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__</m:t>
                    </m:r>
                    <m:r>
                      <m:rPr>
                        <m:lit/>
                        <m:nor/>
                      </m:rPr>
                      <m:t xml:space="preserve">NaCl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__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gB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__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gC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__</m:t>
                    </m:r>
                    <m:r>
                      <m:rPr>
                        <m:lit/>
                        <m:nor/>
                      </m:rPr>
                      <m:t xml:space="preserve">NaB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2" name="Text Box 6"/>
          <p:cNvSpPr/>
          <p:nvPr/>
        </p:nvSpPr>
        <p:spPr>
          <a:xfrm>
            <a:off x="4114800" y="3941640"/>
            <a:ext cx="8161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g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ypes of Reac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Combus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Synthesi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Decomposi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Single replacemen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Double replacemen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bus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75960" y="1905120"/>
            <a:ext cx="8915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Reaction with oxygen that releases energy (heat or light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Hydrocarbons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 (contain only C and H)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ea typeface="Arial"/>
              </a:rPr>
              <a:t>Complete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combustion always produces CO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(g) and H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O(g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Note: incomplete combustion may result in C(s) or CO(g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Rectangle 1"/>
          <p:cNvSpPr/>
          <p:nvPr/>
        </p:nvSpPr>
        <p:spPr>
          <a:xfrm>
            <a:off x="-272880" y="5181480"/>
            <a:ext cx="47242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Complete Combustion (Bunsen Flame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CH</a:t>
            </a:r>
            <a:r>
              <a:rPr b="0" lang="en-US" sz="18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4(g)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+  2O</a:t>
            </a:r>
            <a:r>
              <a:rPr b="0" lang="en-US" sz="18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2(g)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            CO</a:t>
            </a:r>
            <a:r>
              <a:rPr b="0" lang="en-US" sz="18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2(g)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+ 2H</a:t>
            </a:r>
            <a:r>
              <a:rPr b="0" lang="en-US" sz="18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O</a:t>
            </a:r>
            <a:r>
              <a:rPr b="0" lang="en-US" sz="18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(g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cxnSp>
        <p:nvCxnSpPr>
          <p:cNvPr id="388" name="Straight Arrow Connector 5"/>
          <p:cNvCxnSpPr/>
          <p:nvPr/>
        </p:nvCxnSpPr>
        <p:spPr>
          <a:xfrm>
            <a:off x="2089080" y="5655960"/>
            <a:ext cx="280080" cy="1080"/>
          </a:xfrm>
          <a:prstGeom prst="straightConnector1">
            <a:avLst/>
          </a:prstGeom>
          <a:ln w="9360">
            <a:solidFill>
              <a:srgbClr val="ffcc00"/>
            </a:solidFill>
            <a:miter/>
            <a:tailEnd len="med" type="arrow" w="med"/>
          </a:ln>
        </p:spPr>
      </p:cxnSp>
      <p:sp>
        <p:nvSpPr>
          <p:cNvPr id="389" name="Rectangle 8"/>
          <p:cNvSpPr/>
          <p:nvPr/>
        </p:nvSpPr>
        <p:spPr>
          <a:xfrm>
            <a:off x="4195800" y="5181480"/>
            <a:ext cx="4935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Incomplete Combustion (Luminous Flame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CH</a:t>
            </a:r>
            <a:r>
              <a:rPr b="0" lang="en-US" sz="18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4(g)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+  O</a:t>
            </a:r>
            <a:r>
              <a:rPr b="0" lang="en-US" sz="18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2(g)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            C</a:t>
            </a:r>
            <a:r>
              <a:rPr b="0" lang="en-US" sz="18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(g)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+ 2H</a:t>
            </a:r>
            <a:r>
              <a:rPr b="0" lang="en-US" sz="18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O</a:t>
            </a:r>
            <a:r>
              <a:rPr b="0" lang="en-US" sz="18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(g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cxnSp>
        <p:nvCxnSpPr>
          <p:cNvPr id="390" name="Straight Arrow Connector 10"/>
          <p:cNvCxnSpPr/>
          <p:nvPr/>
        </p:nvCxnSpPr>
        <p:spPr>
          <a:xfrm>
            <a:off x="6479640" y="5655960"/>
            <a:ext cx="280440" cy="1080"/>
          </a:xfrm>
          <a:prstGeom prst="straightConnector1">
            <a:avLst/>
          </a:prstGeom>
          <a:ln w="9360">
            <a:solidFill>
              <a:srgbClr val="ffcc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7:18:13Z</dcterms:created>
  <dc:creator>cmichene</dc:creator>
  <dc:description/>
  <dc:language>en-US</dc:language>
  <cp:lastModifiedBy>Dawn</cp:lastModifiedBy>
  <dcterms:modified xsi:type="dcterms:W3CDTF">2013-03-04T01:44:50Z</dcterms:modified>
  <cp:revision>41</cp:revision>
  <dc:subject/>
  <dc:title>Chapter 10</dc:title>
</cp:coreProperties>
</file>